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F95-4C17-40CF-9B31-3A8B96C1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77A-A669-47BE-B94E-DE39FC54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62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817-53B0-4391-ABE8-EF1256AB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49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47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541-B91B-45DB-AB5B-6D786201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7E5-A852-494E-9C31-BBE24ADC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542-B169-4C41-87FD-DB03E204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FC4-CDB8-4AC6-9702-7E4D1F1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4DD-E2B9-4CB9-A681-2531F272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2888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E35-35F5-4C4A-B1CA-C87240F7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330-F94D-4EFB-B28D-16BCE5F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62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492-BD9F-4975-8764-4AE89FC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20B-7F7C-4929-97C6-B25C6DE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AA31-3E9E-4078-B83D-9A304F46D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It is draw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18080" y="2583000"/>
            <a:ext cx="1616040" cy="1121040"/>
            <a:chOff x="3718080" y="2583000"/>
            <a:chExt cx="1616040" cy="1121040"/>
          </a:xfrm>
        </p:grpSpPr>
        <p:sp>
          <p:nvSpPr>
            <p:cNvPr id="80" name=""/>
            <p:cNvSpPr/>
            <p:nvPr/>
          </p:nvSpPr>
          <p:spPr>
            <a:xfrm>
              <a:off x="3718080" y="3002040"/>
              <a:ext cx="13129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 - F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18080" y="2583000"/>
              <a:ext cx="777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56160" y="2583000"/>
              <a:ext cx="777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733920" y="2133720"/>
            <a:ext cx="1295280" cy="380880"/>
            <a:chOff x="3733920" y="2133720"/>
            <a:chExt cx="1295280" cy="380880"/>
          </a:xfrm>
        </p:grpSpPr>
        <p:sp>
          <p:nvSpPr>
            <p:cNvPr id="84" name=""/>
            <p:cNvSpPr/>
            <p:nvPr/>
          </p:nvSpPr>
          <p:spPr>
            <a:xfrm>
              <a:off x="3733920" y="232416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2133720"/>
              <a:ext cx="0" cy="380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ich Molecules Have Them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y two atom molecule with a polar b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th three or more atoms there are two considerat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re must be a polar b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metry can cancel it ou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ree shapes will cancel them ou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near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64280" y="2444760"/>
            <a:ext cx="520560" cy="520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7760" y="2444760"/>
            <a:ext cx="520560" cy="520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21280" y="2139840"/>
            <a:ext cx="1130040" cy="11304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724280" y="3352680"/>
            <a:ext cx="1219320" cy="349200"/>
            <a:chOff x="4724280" y="3352680"/>
            <a:chExt cx="1219320" cy="349200"/>
          </a:xfrm>
        </p:grpSpPr>
        <p:sp>
          <p:nvSpPr>
            <p:cNvPr id="94" name=""/>
            <p:cNvSpPr/>
            <p:nvPr/>
          </p:nvSpPr>
          <p:spPr>
            <a:xfrm>
              <a:off x="4724280" y="3527280"/>
              <a:ext cx="1219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0280" y="3352680"/>
              <a:ext cx="0" cy="349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428640" y="3352680"/>
            <a:ext cx="1219320" cy="349200"/>
            <a:chOff x="3428640" y="3352680"/>
            <a:chExt cx="1219320" cy="349200"/>
          </a:xfrm>
        </p:grpSpPr>
        <p:sp>
          <p:nvSpPr>
            <p:cNvPr id="97" name=""/>
            <p:cNvSpPr/>
            <p:nvPr/>
          </p:nvSpPr>
          <p:spPr>
            <a:xfrm flipH="1">
              <a:off x="3428640" y="3527280"/>
              <a:ext cx="1219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32320" y="3352680"/>
              <a:ext cx="0" cy="349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ree shapes will cancel them ou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lanar triangl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0760" y="3359160"/>
            <a:ext cx="901800" cy="9018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6560" y="3168720"/>
            <a:ext cx="520560" cy="520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9880" y="3168720"/>
            <a:ext cx="520560" cy="520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21200" y="4197240"/>
            <a:ext cx="520920" cy="520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40000" y="4746600"/>
            <a:ext cx="349200" cy="1219320"/>
            <a:chOff x="2340000" y="4746600"/>
            <a:chExt cx="349200" cy="1219320"/>
          </a:xfrm>
        </p:grpSpPr>
        <p:sp>
          <p:nvSpPr>
            <p:cNvPr id="106" name=""/>
            <p:cNvSpPr/>
            <p:nvPr/>
          </p:nvSpPr>
          <p:spPr>
            <a:xfrm>
              <a:off x="2514600" y="47466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340000" y="4962600"/>
              <a:ext cx="3492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666880" y="4032360"/>
            <a:ext cx="1067040" cy="637920"/>
            <a:chOff x="2666880" y="4032360"/>
            <a:chExt cx="1067040" cy="637920"/>
          </a:xfrm>
        </p:grpSpPr>
        <p:sp>
          <p:nvSpPr>
            <p:cNvPr id="109" name=""/>
            <p:cNvSpPr/>
            <p:nvPr/>
          </p:nvSpPr>
          <p:spPr>
            <a:xfrm flipV="1">
              <a:off x="2666880" y="4032360"/>
              <a:ext cx="1067040" cy="590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71640" y="4365720"/>
              <a:ext cx="168480" cy="30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8960" y="4032360"/>
            <a:ext cx="1066680" cy="637920"/>
            <a:chOff x="1218960" y="4032360"/>
            <a:chExt cx="1066680" cy="637920"/>
          </a:xfrm>
        </p:grpSpPr>
        <p:sp>
          <p:nvSpPr>
            <p:cNvPr id="112" name=""/>
            <p:cNvSpPr/>
            <p:nvPr/>
          </p:nvSpPr>
          <p:spPr>
            <a:xfrm flipH="1" flipV="1">
              <a:off x="1218960" y="4032360"/>
              <a:ext cx="1066680" cy="590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012760" y="4365720"/>
              <a:ext cx="168120" cy="30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904760" y="3960000"/>
            <a:ext cx="1523880" cy="167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37" y="5548"/>
                </a:moveTo>
                <a:arcTo wR="10800" hR="10800" stAng="-1745728" swAng="7145728"/>
                <a:lnTo>
                  <a:pt x="10800" y="10800"/>
                </a:lnTo>
                <a:close/>
              </a:path>
              <a:path fill="none" w="21600" h="21600">
                <a:moveTo>
                  <a:pt x="20237" y="5548"/>
                </a:moveTo>
                <a:arcTo wR="10800" hR="10800" stAng="-1745728" swAng="7145728"/>
              </a:path>
            </a:pathLst>
          </a:custGeom>
          <a:noFill/>
          <a:ln cap="rnd"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9528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120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ree shapes will cancel them out.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trahed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4729320"/>
            <a:ext cx="444600" cy="403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09880" y="4722480"/>
            <a:ext cx="2743200" cy="2062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933800" y="4552560"/>
            <a:ext cx="1603440" cy="15876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19600" y="4513320"/>
            <a:ext cx="1133280" cy="42048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7120" y="4637160"/>
            <a:ext cx="258840" cy="102240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160800"/>
            <a:ext cx="60480" cy="143028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0760" y="4311720"/>
            <a:ext cx="558720" cy="50796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09520" y="2951280"/>
            <a:ext cx="1143000" cy="19778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33800" y="2965320"/>
            <a:ext cx="362160" cy="2694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33800" y="2932200"/>
            <a:ext cx="1638360" cy="18097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295960" y="4722840"/>
            <a:ext cx="1257120" cy="9367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760" y="2749680"/>
            <a:ext cx="444600" cy="404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809880" y="4928760"/>
            <a:ext cx="1471680" cy="700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3480" y="5456160"/>
            <a:ext cx="444600" cy="405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30960" y="4519440"/>
            <a:ext cx="444600" cy="403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hers don’t canc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2514600"/>
            <a:ext cx="444600" cy="444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3657600"/>
            <a:ext cx="444600" cy="444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4720" y="2757600"/>
            <a:ext cx="1130400" cy="11300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740560" y="2793600"/>
            <a:ext cx="987120" cy="732240"/>
            <a:chOff x="5740560" y="2793600"/>
            <a:chExt cx="987120" cy="732240"/>
          </a:xfrm>
        </p:grpSpPr>
        <p:sp>
          <p:nvSpPr>
            <p:cNvPr id="139" name=""/>
            <p:cNvSpPr/>
            <p:nvPr/>
          </p:nvSpPr>
          <p:spPr>
            <a:xfrm flipH="1">
              <a:off x="5740560" y="2808360"/>
              <a:ext cx="987120" cy="717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449760" y="2793600"/>
              <a:ext cx="206280" cy="282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62520" y="3922200"/>
            <a:ext cx="987120" cy="732240"/>
            <a:chOff x="5762520" y="3922200"/>
            <a:chExt cx="987120" cy="732240"/>
          </a:xfrm>
        </p:grpSpPr>
        <p:sp>
          <p:nvSpPr>
            <p:cNvPr id="142" name=""/>
            <p:cNvSpPr/>
            <p:nvPr/>
          </p:nvSpPr>
          <p:spPr>
            <a:xfrm flipH="1" flipV="1">
              <a:off x="5762520" y="3922200"/>
              <a:ext cx="987120" cy="717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472080" y="4371840"/>
              <a:ext cx="206280" cy="282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5562360" y="3733920"/>
            <a:ext cx="90324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9960" y="3581280"/>
            <a:ext cx="0" cy="3049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172200" y="4572000"/>
            <a:ext cx="0" cy="9144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5410080"/>
            <a:ext cx="3045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648320"/>
            <a:ext cx="2210040" cy="759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hers don’t canc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igonal Pyramid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743200" y="4419720"/>
            <a:ext cx="1457280" cy="26352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7040" y="4419720"/>
            <a:ext cx="762120" cy="22860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690640" y="4419720"/>
            <a:ext cx="281160" cy="121608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7040" y="4044960"/>
            <a:ext cx="749520" cy="74916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666880" y="4647960"/>
            <a:ext cx="1600200" cy="9903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80720" y="4647960"/>
            <a:ext cx="685800" cy="9903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41400" y="447984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1080" y="541656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44960" y="450216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019920" y="4419720"/>
            <a:ext cx="1457280" cy="26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4120" y="4419720"/>
            <a:ext cx="761760" cy="2286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67360" y="4419720"/>
            <a:ext cx="128520" cy="1216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449568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5486400"/>
            <a:ext cx="304560" cy="7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419720"/>
            <a:ext cx="7632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oms tend to react to form noble gas configura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tals lose electrons to form cat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nmetals can share electrons in covalent bonds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 they can gain electrons to form an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onic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ons align themselves to maximize attractions between opposite charges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to minimize repulsion between like 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n stabilize ions that would be unstable as a g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act to achieve noble gas configur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0668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(s) + ½F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NaF(s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rst sublime 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a(s)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Na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109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onize Na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Na(g)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e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495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reak F-F Bon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½F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F(g)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77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 electron to F       F(g) + e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-328 kJ/mo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s a Bond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force that holds atoms toge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will look at it in terms of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 energy is the energy required to break a b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y are compounds formed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cause it gives the system the lowest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0668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(s) + ½F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NaF(s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attice energy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a(s) + ½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NaF(s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-928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 ionic compound is considered any substance that conducts electricity when melt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so use the generic term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sal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179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Covalent Bond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tendency of atoms to achieve the lowest energy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1652 kJ to dissociate a mole of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its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each hydrogen is hooked to the carbon, we get the average energy = 413 kJ/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 has 3 C-H, and 1 C - C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C-Cl bond is 339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bond is a method of explaining the energy change associated with forming molecul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s don’t exist in nature, but are useful as a model of behavior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706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valent Bond Energi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142640"/>
            <a:ext cx="7921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made some simplifications in describing the bond energy of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ach C-H bond has a different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453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435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H + 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425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 + 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339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179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ocalized Electron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4360" y="1220400"/>
            <a:ext cx="822816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lecule is composed of atoms that are bound together by sharing pairs of electrons using the atomic orbitals of the boun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 using Lewis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ion of geometry using VSE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the types of orbit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ewis Struc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ws how the valence electrons are arrang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dot for each valence electr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able compound has all its atoms with a noble gas configur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drogen follows the duet rule, Be the quartet, B the sext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rest follow the octet ru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nding pair is the one between the symb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7900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m the valence electr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a pair to form a bond between each pair of ato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range the rest to fulfill the octet rule (except for H, Be and B)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line can be used instead of a pai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tom is commonly the central ato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 atom with a low ionization energy reacts with an atom with high electron affinit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lectron is transferr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posite charges hold the atoms toge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ceptions to the octe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row and larger elements can exceed the oct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cause they use 3d orbit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ceptions to the octe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we must exceed the octet, extra electrons tend to go on central ato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e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1760" y="1066320"/>
            <a:ext cx="8312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there is more than one valid structure for an molecule or 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double arrows to indicate it is the “average” of the stru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switch between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ized electron model is based on pairs of electrons, doesn’t deal with odd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al Charg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7900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molecules and polyatomic ions that exceed the octet there are several different structur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charges on atoms to help decide which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ying to use the oxidation numbers to put charges on atoms  in molecules doesn’t work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179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al Charg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6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difference between the number of valence electrons on the free atom and that assigned in the molecu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count half the electrons in each bond as “belonging” to the ato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ecules try to achieve as low a formal charge as possib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egative formal charges should be on electronegative elemen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e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ulomb's Law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charges are opposite, energy change is nega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othermi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ame charge, positive E, requires energy to bring them toge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VSEP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wis structures tell us how the atoms are connected to each o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y don’t tell us anything about shap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hape of a molecule can greatly affect its properti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ence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ell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ctron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ir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pulsion Theory allows us to predict geomet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VSEP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ecules take a shape that puts electron pairs as far away from each other as possib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ave to draw the Lewis structure to determine electron pair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ing or nonbonding lone pai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ne pair take more spac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VSEP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mber of pairs determi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 ang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derlying structu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mber of atoms determin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ctual sh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VSEP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6000" y="1127160"/>
            <a:ext cx="5929560" cy="1127880"/>
            <a:chOff x="396000" y="1127160"/>
            <a:chExt cx="5929560" cy="1127880"/>
          </a:xfrm>
        </p:grpSpPr>
        <p:sp>
          <p:nvSpPr>
            <p:cNvPr id="207" name=""/>
            <p:cNvSpPr/>
            <p:nvPr/>
          </p:nvSpPr>
          <p:spPr>
            <a:xfrm>
              <a:off x="396000" y="1127160"/>
              <a:ext cx="17668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pairs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24800" y="1127160"/>
              <a:ext cx="150336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Bond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Angles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81680" y="1127160"/>
              <a:ext cx="22438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Underlying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Shape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066680" y="2232000"/>
            <a:ext cx="4537080" cy="633960"/>
            <a:chOff x="1066680" y="2232000"/>
            <a:chExt cx="4537080" cy="633960"/>
          </a:xfrm>
        </p:grpSpPr>
        <p:sp>
          <p:nvSpPr>
            <p:cNvPr id="211" name=""/>
            <p:cNvSpPr/>
            <p:nvPr/>
          </p:nvSpPr>
          <p:spPr>
            <a:xfrm>
              <a:off x="1066680" y="223200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8280" y="2232000"/>
              <a:ext cx="1074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180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79880" y="2255760"/>
              <a:ext cx="1523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Linear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066680" y="2917800"/>
            <a:ext cx="6365880" cy="633960"/>
            <a:chOff x="1066680" y="2917800"/>
            <a:chExt cx="6365880" cy="633960"/>
          </a:xfrm>
        </p:grpSpPr>
        <p:sp>
          <p:nvSpPr>
            <p:cNvPr id="215" name=""/>
            <p:cNvSpPr/>
            <p:nvPr/>
          </p:nvSpPr>
          <p:spPr>
            <a:xfrm>
              <a:off x="1066680" y="291780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38280" y="2917800"/>
              <a:ext cx="1074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120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9880" y="2941560"/>
              <a:ext cx="3352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Trigonal Planar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066680" y="3657600"/>
            <a:ext cx="6365880" cy="633960"/>
            <a:chOff x="1066680" y="3657600"/>
            <a:chExt cx="6365880" cy="633960"/>
          </a:xfrm>
        </p:grpSpPr>
        <p:sp>
          <p:nvSpPr>
            <p:cNvPr id="219" name=""/>
            <p:cNvSpPr/>
            <p:nvPr/>
          </p:nvSpPr>
          <p:spPr>
            <a:xfrm>
              <a:off x="1066680" y="365760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58280" y="3657600"/>
              <a:ext cx="1434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109.5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79880" y="3681360"/>
              <a:ext cx="3352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Tetrahedral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066680" y="4379760"/>
            <a:ext cx="6365880" cy="1152000"/>
            <a:chOff x="1066680" y="4379760"/>
            <a:chExt cx="6365880" cy="1152000"/>
          </a:xfrm>
        </p:grpSpPr>
        <p:sp>
          <p:nvSpPr>
            <p:cNvPr id="223" name=""/>
            <p:cNvSpPr/>
            <p:nvPr/>
          </p:nvSpPr>
          <p:spPr>
            <a:xfrm>
              <a:off x="1066680" y="462456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54400" y="4379760"/>
              <a:ext cx="124416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90° &amp;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120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79880" y="4403880"/>
              <a:ext cx="33526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Trigonal Bipyramidal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066680" y="5524560"/>
            <a:ext cx="6365880" cy="633960"/>
            <a:chOff x="1066680" y="5524560"/>
            <a:chExt cx="6365880" cy="633960"/>
          </a:xfrm>
        </p:grpSpPr>
        <p:sp>
          <p:nvSpPr>
            <p:cNvPr id="227" name=""/>
            <p:cNvSpPr/>
            <p:nvPr/>
          </p:nvSpPr>
          <p:spPr>
            <a:xfrm>
              <a:off x="1066680" y="552456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56000" y="5548320"/>
              <a:ext cx="8380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90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9880" y="5548320"/>
              <a:ext cx="3352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Octahedron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706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ual shap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1371600"/>
            <a:ext cx="1676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-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346480"/>
            <a:ext cx="167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009960"/>
            <a:ext cx="213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619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onal pla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22928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762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ra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5295960"/>
            <a:ext cx="365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onal pyrami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58294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58294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58294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5829480"/>
            <a:ext cx="365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ual Shap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1371600"/>
            <a:ext cx="1676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-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346480"/>
            <a:ext cx="167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3009960"/>
            <a:ext cx="388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onal bipyrimi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3619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-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22928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-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4762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ual Sha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1371600"/>
            <a:ext cx="1676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-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2346480"/>
            <a:ext cx="167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3009960"/>
            <a:ext cx="388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a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3619440"/>
            <a:ext cx="388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Pyrami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422928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Pla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762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-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5295960"/>
            <a:ext cx="365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f no central atom…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n predict the geometry of each ang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ild it piece by piec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well does it work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edictions are almost always accurat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t, like all simple models, it has excep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ic Orbitals Don’t Wor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explain molecular geometr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methane, CH</a:t>
            </a:r>
            <a:r>
              <a:rPr b="0" lang="en-US" sz="43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the shape is tetrahedra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valence electrons of carbon should be  two in s, and two in p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p orbitals would have to be at right angl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atomic orbitals change when making a molecul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338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about covalent compounds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lectrons in each atom are attracted to the nucleus of the o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lectrons repel each other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clei repel each o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y reach a distance with the lowest possible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distance between is the bond length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two things come off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e s and one p hybridiz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594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d up with two lobes 180º apar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 orbitals are at right ang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es room for two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bonds and two sigma bon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triple bond or two double bon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three things come off ato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igonal plan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20º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n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bon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3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uble bond acts as one pai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igonal plan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ave to end up with three blende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one s and two p orbitals to make sp</a:t>
            </a:r>
            <a:r>
              <a:rPr b="0" lang="en-US" sz="43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ves one p orbital perpendicula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blend the s and p orbitals of the valence electrons and end up with the tetrahedral geometr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combine one s orbital and 3 p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43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ybridization has tetrahedral geometr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we get to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365960" cy="46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he geometry from experi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he orbitals of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izing atomic orbitals can explain the geome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if the geometry requires a tetrahedral shape, it is s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ybrid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bent and trigonal pyramidal molecules because one of the s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bes holds the lone p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9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55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model predicts that we must use the 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43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 hybridizat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ex: PCl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igonal bipyrimid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an only </a:t>
            </a: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bon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an’t </a:t>
            </a: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bon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asic shape for five bond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16640" cy="337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ts us to six bonds aroun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ctahed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types of Bo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gma bonds from overlap of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tween the ato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 bond (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bond) above and below atom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tween adjacent p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two bonds of a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uble b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3560" y="1674360"/>
            <a:ext cx="6191280" cy="127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can make two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two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can make on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on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30160" y="2895480"/>
            <a:ext cx="5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3120" y="2895480"/>
            <a:ext cx="588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44200" y="2895480"/>
            <a:ext cx="588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124080"/>
            <a:ext cx="304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352680"/>
            <a:ext cx="304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3124080"/>
            <a:ext cx="381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3352680"/>
            <a:ext cx="381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467080" y="2911320"/>
            <a:ext cx="171360" cy="196920"/>
            <a:chOff x="2467080" y="2911320"/>
            <a:chExt cx="171360" cy="196920"/>
          </a:xfrm>
        </p:grpSpPr>
        <p:sp>
          <p:nvSpPr>
            <p:cNvPr id="339" name=""/>
            <p:cNvSpPr/>
            <p:nvPr/>
          </p:nvSpPr>
          <p:spPr>
            <a:xfrm>
              <a:off x="2560680" y="2911320"/>
              <a:ext cx="77760" cy="7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67080" y="303048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466360" y="3455280"/>
            <a:ext cx="198000" cy="176040"/>
            <a:chOff x="2466360" y="3455280"/>
            <a:chExt cx="198000" cy="176040"/>
          </a:xfrm>
        </p:grpSpPr>
        <p:sp>
          <p:nvSpPr>
            <p:cNvPr id="342" name=""/>
            <p:cNvSpPr/>
            <p:nvPr/>
          </p:nvSpPr>
          <p:spPr>
            <a:xfrm rot="5460000">
              <a:off x="2584080" y="3551040"/>
              <a:ext cx="7920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60000">
              <a:off x="2467080" y="3456000"/>
              <a:ext cx="7920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16440" y="2924280"/>
            <a:ext cx="196920" cy="171360"/>
            <a:chOff x="4816440" y="2924280"/>
            <a:chExt cx="196920" cy="171360"/>
          </a:xfrm>
        </p:grpSpPr>
        <p:sp>
          <p:nvSpPr>
            <p:cNvPr id="345" name=""/>
            <p:cNvSpPr/>
            <p:nvPr/>
          </p:nvSpPr>
          <p:spPr>
            <a:xfrm>
              <a:off x="4816440" y="292428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35600" y="301788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839480" y="3444120"/>
            <a:ext cx="176040" cy="198360"/>
            <a:chOff x="4839480" y="3444120"/>
            <a:chExt cx="176040" cy="198360"/>
          </a:xfrm>
        </p:grpSpPr>
        <p:sp>
          <p:nvSpPr>
            <p:cNvPr id="348" name=""/>
            <p:cNvSpPr/>
            <p:nvPr/>
          </p:nvSpPr>
          <p:spPr>
            <a:xfrm rot="60000">
              <a:off x="4935600" y="3444480"/>
              <a:ext cx="7920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60000">
              <a:off x="4840200" y="3561840"/>
              <a:ext cx="7956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ctrons are shared by ato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polar bonds the electrons are not shared evenl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e end is slightly positive, the other negativ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dicated using small delta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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ability of an atom to attract shared electrons to itself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nds to increase left to r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creases as you go down a group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ble gases aren’t part of i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fference in electronegativity between atoms tells us how polar bond i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5160" y="579600"/>
            <a:ext cx="3571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ega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01320" y="579600"/>
            <a:ext cx="133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o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76000" y="1951200"/>
            <a:ext cx="106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120" y="3322800"/>
            <a:ext cx="260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3320" y="4923000"/>
            <a:ext cx="129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438280"/>
            <a:ext cx="0" cy="9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886200"/>
            <a:ext cx="0" cy="106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19080" y="1951200"/>
            <a:ext cx="190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val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19080" y="2438280"/>
            <a:ext cx="1901160" cy="1723320"/>
            <a:chOff x="3619080" y="2438280"/>
            <a:chExt cx="1901160" cy="1723320"/>
          </a:xfrm>
        </p:grpSpPr>
        <p:sp>
          <p:nvSpPr>
            <p:cNvPr id="69" name=""/>
            <p:cNvSpPr/>
            <p:nvPr/>
          </p:nvSpPr>
          <p:spPr>
            <a:xfrm>
              <a:off x="3619080" y="3094200"/>
              <a:ext cx="1901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Polar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Coval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68760" y="2438280"/>
              <a:ext cx="0" cy="6098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003200" y="4267080"/>
            <a:ext cx="1132920" cy="1235880"/>
            <a:chOff x="4003200" y="4267080"/>
            <a:chExt cx="1132920" cy="1235880"/>
          </a:xfrm>
        </p:grpSpPr>
        <p:sp>
          <p:nvSpPr>
            <p:cNvPr id="72" name=""/>
            <p:cNvSpPr/>
            <p:nvPr/>
          </p:nvSpPr>
          <p:spPr>
            <a:xfrm>
              <a:off x="4003200" y="492300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Ion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68760" y="4267080"/>
              <a:ext cx="0" cy="68580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492880" y="539640"/>
            <a:ext cx="3111480" cy="5550120"/>
          </a:xfrm>
          <a:prstGeom prst="downArrow">
            <a:avLst>
              <a:gd name="adj1" fmla="val 50000"/>
              <a:gd name="adj2" fmla="val 3003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474080" y="2254680"/>
            <a:ext cx="5128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valent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onic Character in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ipole Momen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molecule with a center of negative charge and a center of positive charge is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dipolar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two poles)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so called a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dipole mome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er of charge doesn’t have to be on an ato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 line up in the presence of an electric fiel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1T00:04:32Z</dcterms:created>
  <dc:creator/>
  <dc:description/>
  <cp:keywords/>
  <dc:language>en-US</dc:language>
  <cp:lastModifiedBy>FPS</cp:lastModifiedBy>
  <dcterms:modified xsi:type="dcterms:W3CDTF">2007-11-02T15:05:45Z</dcterms:modified>
  <cp:revision>26</cp:revision>
  <dc:subject/>
  <dc:title>Chapter 8</dc:title>
</cp:coreProperties>
</file>